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9F8-1944-4AE1-9477-3DD139BA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3FE-8C30-4CEB-B96B-031936F7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C63-562D-4420-A2E4-1A3D2D3C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CF0-8D35-429F-9F14-B5F5B1D9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51C-3F83-43E3-B8F6-CAD552FA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B48-93CA-4EF7-A588-E140AC9A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38E-A204-4A6A-8557-FA73933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252-8187-4BB0-8BC8-B59DA2D6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B28-1615-427B-934D-AF69B1DA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9E5-DE46-468A-A517-53CB44F2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AAC-A6D5-4BE6-A099-C312EEB0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8D2-D78E-4B6C-9C22-1ED6D686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7A7C-A5A7-43AF-9A98-2F96EC673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Densit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4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09480" y="304920"/>
            <a:ext cx="77724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lculate the mass for the following objects using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ugie"/>
              </a:rPr>
              <a:t>mass = Density x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Heart 2"/>
          <p:cNvSpPr/>
          <p:nvPr/>
        </p:nvSpPr>
        <p:spPr>
          <a:xfrm>
            <a:off x="990720" y="2438280"/>
            <a:ext cx="1523880" cy="1524240"/>
          </a:xfrm>
          <a:prstGeom prst="pie">
            <a:avLst/>
          </a:prstGeom>
          <a:solidFill>
            <a:srgbClr val="333399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 3"/>
          <p:cNvSpPr/>
          <p:nvPr/>
        </p:nvSpPr>
        <p:spPr>
          <a:xfrm rot="403800">
            <a:off x="560520" y="4246560"/>
            <a:ext cx="2361960" cy="1905120"/>
          </a:xfrm>
          <a:prstGeom prst="pie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20040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heart has a density of 5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has a volume of 1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its m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200400" y="43434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cloud has a volume of 5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a density of 2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its m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029200" y="624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Don’t forget the units for m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iagonal Stripe 20"/>
          <p:cNvSpPr/>
          <p:nvPr/>
        </p:nvSpPr>
        <p:spPr>
          <a:xfrm rot="1102800">
            <a:off x="6368760" y="4317480"/>
            <a:ext cx="457200" cy="83844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iagonal Stripe 19"/>
          <p:cNvSpPr/>
          <p:nvPr/>
        </p:nvSpPr>
        <p:spPr>
          <a:xfrm rot="1102800">
            <a:off x="4463640" y="4774680"/>
            <a:ext cx="457200" cy="83844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iagonal Stripe 12"/>
          <p:cNvSpPr/>
          <p:nvPr/>
        </p:nvSpPr>
        <p:spPr>
          <a:xfrm rot="1102800">
            <a:off x="6400440" y="2514240"/>
            <a:ext cx="457200" cy="83808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iagonal Stripe 10"/>
          <p:cNvSpPr/>
          <p:nvPr/>
        </p:nvSpPr>
        <p:spPr>
          <a:xfrm>
            <a:off x="4495680" y="2971800"/>
            <a:ext cx="762120" cy="68580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6200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609480" y="304920"/>
            <a:ext cx="77724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lculate the mass for the following objects using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ugie"/>
              </a:rPr>
              <a:t>mass = Density x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Heart 2"/>
          <p:cNvSpPr/>
          <p:nvPr/>
        </p:nvSpPr>
        <p:spPr>
          <a:xfrm>
            <a:off x="990720" y="2438280"/>
            <a:ext cx="1523880" cy="1524240"/>
          </a:xfrm>
          <a:prstGeom prst="pie">
            <a:avLst/>
          </a:prstGeom>
          <a:solidFill>
            <a:srgbClr val="333399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3"/>
          <p:cNvSpPr/>
          <p:nvPr/>
        </p:nvSpPr>
        <p:spPr>
          <a:xfrm rot="403800">
            <a:off x="560520" y="4246560"/>
            <a:ext cx="2361960" cy="1905120"/>
          </a:xfrm>
          <a:prstGeom prst="pie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12408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ss = 5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g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1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029200" y="624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Don’t forget the units for m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ultiply 8"/>
          <p:cNvSpPr/>
          <p:nvPr/>
        </p:nvSpPr>
        <p:spPr>
          <a:xfrm flipV="1">
            <a:off x="5334120" y="2590920"/>
            <a:ext cx="380880" cy="426960"/>
          </a:xfrm>
          <a:prstGeom prst="pie">
            <a:avLst/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qual 9"/>
          <p:cNvSpPr/>
          <p:nvPr/>
        </p:nvSpPr>
        <p:spPr>
          <a:xfrm>
            <a:off x="7010280" y="2438280"/>
            <a:ext cx="457200" cy="685800"/>
          </a:xfrm>
          <a:prstGeom prst="pie">
            <a:avLst/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13" descr=""/>
          <p:cNvPicPr/>
          <p:nvPr/>
        </p:nvPicPr>
        <p:blipFill>
          <a:blip r:embed="rId1"/>
          <a:stretch/>
        </p:blipFill>
        <p:spPr>
          <a:xfrm>
            <a:off x="7424640" y="2309760"/>
            <a:ext cx="1901880" cy="817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4"/>
          <p:cNvSpPr/>
          <p:nvPr/>
        </p:nvSpPr>
        <p:spPr>
          <a:xfrm>
            <a:off x="3048120" y="43434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ss = 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g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5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Multiply 15"/>
          <p:cNvSpPr/>
          <p:nvPr/>
        </p:nvSpPr>
        <p:spPr>
          <a:xfrm flipV="1">
            <a:off x="5257800" y="4494960"/>
            <a:ext cx="380880" cy="427320"/>
          </a:xfrm>
          <a:prstGeom prst="pie">
            <a:avLst/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qual 16"/>
          <p:cNvSpPr/>
          <p:nvPr/>
        </p:nvSpPr>
        <p:spPr>
          <a:xfrm>
            <a:off x="6934320" y="4343400"/>
            <a:ext cx="457200" cy="685800"/>
          </a:xfrm>
          <a:prstGeom prst="pie">
            <a:avLst/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18" descr=""/>
          <p:cNvPicPr/>
          <p:nvPr/>
        </p:nvPicPr>
        <p:blipFill>
          <a:blip r:embed="rId2"/>
          <a:stretch/>
        </p:blipFill>
        <p:spPr>
          <a:xfrm>
            <a:off x="7236000" y="4303800"/>
            <a:ext cx="205416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35:08Z</dcterms:created>
  <dc:creator>PritchaJ</dc:creator>
  <dc:description/>
  <dc:language>en-US</dc:language>
  <cp:lastModifiedBy>PritchaJ</cp:lastModifiedBy>
  <dcterms:modified xsi:type="dcterms:W3CDTF">2011-05-24T15:35:17Z</dcterms:modified>
  <cp:revision>1</cp:revision>
  <dc:subject/>
  <dc:title>Slide 1</dc:title>
</cp:coreProperties>
</file>